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4B2-D293-41A6-9ABB-78DFD3C4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825-A719-4E9D-955E-BEB3039A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8692-467B-4D8E-A0B5-3FA38334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F7B-32A5-4531-B39B-AF511B71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93B-7342-46C6-A826-EA540C2C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C09-99CB-4B48-B520-62E8634F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2D2-7BE4-4CFB-9A0D-ED38D8F4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351-745D-41AB-8D18-518E90E8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F29-4D3A-48A8-BEB7-BFBABB7C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A6B-D1CE-4388-AEA2-D138ED3D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621-C001-4130-B87F-27E88BC6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D8D-4B99-4018-97D7-5B76AD27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EFD7-9420-4DC7-AA0D-FDAC10546E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LC Chalk"/>
              </a:rPr>
              <a:t>Классный час на тему:</a:t>
            </a:r>
            <a:br>
              <a:rPr sz="4800"/>
            </a:br>
            <a:r>
              <a:rPr b="1" lang="ru-RU" sz="5400" spc="-1" strike="noStrike">
                <a:solidFill>
                  <a:srgbClr val="ffffff"/>
                </a:solidFill>
                <a:latin typeface="LC Chalk"/>
              </a:rPr>
              <a:t>ОПЯТЬ ДВОЙК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14360" y="5714640"/>
            <a:ext cx="5057640" cy="4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C Chalk"/>
              </a:rPr>
              <a:t>Г. Лангепас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928800" y="642960"/>
            <a:ext cx="74800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АНГЕПАССКОЕ ГОРОДСКОЕ МУНИЦИПАЛЬНОЕ БЮДЖЕТ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«СРЕДНЯЯ ОБЩЕОБРАЗОВАТЕЛЬНАЯ ШКОЛА № 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00040" y="541440"/>
            <a:ext cx="5357880" cy="5817960"/>
          </a:xfrm>
          <a:prstGeom prst="rect">
            <a:avLst/>
          </a:prstGeom>
          <a:ln w="0">
            <a:noFill/>
          </a:ln>
        </p:spPr>
      </p:pic>
      <p:sp>
        <p:nvSpPr>
          <p:cNvPr id="45" name="Подзаголовок 2"/>
          <p:cNvSpPr/>
          <p:nvPr/>
        </p:nvSpPr>
        <p:spPr>
          <a:xfrm>
            <a:off x="5857920" y="642960"/>
            <a:ext cx="27860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Monotype Corsiva"/>
              </a:rPr>
              <a:t>Ф.П. Решетн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«Опять двойка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(1540-е – 1950-е 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Как уберечь дневник от двойки и замечани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264312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LC Chalk"/>
              </a:rPr>
              <a:t>Спасибо за участ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5:37:46Z</dcterms:created>
  <dc:creator>Учитель помни это</dc:creator>
  <dc:description/>
  <cp:keywords/>
  <dc:language>en-US</dc:language>
  <cp:lastModifiedBy>Пользователь</cp:lastModifiedBy>
  <dcterms:modified xsi:type="dcterms:W3CDTF">2013-10-28T13:37:15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9990</vt:lpwstr>
  </property>
</Properties>
</file>